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D11F-3AB4-4003-8F17-B181279B2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E635-220E-4E50-A19A-48B0FF357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F675-3DA4-4A75-B457-A62A45B63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C0A9-C5A6-4F83-829B-476716B68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8185-84F8-4612-A5C1-F77996F5C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7A55-EA61-4A2D-8DB1-1E310A8B2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14CE-BEE3-4F48-AF90-F7F74A8C2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7A68-5627-47B8-AA43-BA530CFD3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337D-0893-4D3E-A1B6-38AA9101C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8C5C-E5BA-4C0E-B716-4921F94A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A08D-EE57-4330-AA09-8A7C03C4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07B0-E15D-4EAB-AA36-B0DDADFA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9A973-79BE-4F68-9076-0619082BB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hosted/life/f?q=1950+whistle+stop&amp;prev=/images%3Fq%3D1950%2Bwhistle%2Bstop%26start%3D60%26um%3D1%26hl%3Den%26safe%3Dactive%26sa%3DN%26rls%3Dcom.microsoft:en-us:IE-SearchBox%26rlz%3D1I7ADBS_en%26ndsp%3D20%26tbs%3Disch:1&amp;imgurl=44bb75e50868b198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ld War Poli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Ray, Brennan and Jessic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ivil Rights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man was a longtime supporter of equal rights for African Americ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vil rights issues shattered the democrats national conven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ervative southern democrats the so called “Dixiecrats” broke from the party to form a state right demarcate party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unning on the rail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uman claimed that the republicans were not serious about solving the nations proble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18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gress rejected: aid to farmers, a minimum wages hike from 40-75 cents. A house bill increased social security converge and new price contro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labor day to election day Truman took his famous train trip or known as whistle-stop tour in cars that belonged to FD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uman won the elec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685800"/>
            <a:ext cx="830556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fair Dea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air deal registered is suc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ocial security system was used to cover 10 million more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nimum wage rose from 40-50 cents per ho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housing act of 1949 authorized the construction of about 800,000 law-in-come uni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Cold War at H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tio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ear of communism at h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the end of WW2 their was a huge power grab politically in the world between capitalism and commun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that fear growing citizens and politicians worried of communism growing in the United Stat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90920" y="1066680"/>
            <a:ext cx="3809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hunt for communist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the Soviet Union developing an atomic bomb and the spread of communism around the world, some politicians used fear as a way to defeat enemies and grab political po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gress created the House Un-American Activities Committee or the HUA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of there first issues that they looked for is communist influence on FDR’s New De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47 the HUAC led by then congressman Richard Nixon started hearings against suspected communist most notably Alger Hiss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ttaker Chambers (senior editor at Time Magazine and communist sympathizer) was closely involved with Alger Hi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mbers now a staunch anti-communist testified against Hi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s was a Harvard law graduate, was a clerk for a Supreme court justice and served as a “New Dealer” under FD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ole  of Chamber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 after Chambers testimony and FBI investigations a New York grand jury failed to bring indictment against His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late 1948 the case took a bizarre turn, investigators visited Chambers farm to find micro film showing secret state dept. documents that were traced to Hi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s was convicted in 1950 of two counts of perjury and sentenced to five years in pri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treat From the New Dea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819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tion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uman joins Red Hu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947 Truman instituted the Federal Employee Loyalty progra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 the program any connection to a communist party member was enough to put a government worker out of a jo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1947-1951 the “Loyalty board” investigated 3 million government employees, 3000 were forced to resigned and 212 were fi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probes uncovered subversion or espion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cCarran 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cCarran Act made it illegal for Americans to engage in activates that would  create a communist govern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uman vetoed the McCarran Act declaring “ in a free country, we punish men for crimes they commit, but never for the opinions the hold.” Congress easily overrode the ve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ustice serve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early 1950’s Ethel and Julius Rosenberg were charged of conspiracy to sell specs for manufacturing an atomic bomb to the Sovie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June 19, 1953 the Rosenberg’s were put to dea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ently released Soviet documents seem to confirm the Rosenberg’s guil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cCarthy 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ly 1950 Senator Joseph McCarthy took up the anti-Communist cau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ower hungry McCarthy accused many of communist ties but never produced a shred of credible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ublicans in his own party thought he was a loose cannon and often distanced themselves from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cCarthy takes on U.S. Arm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54 McCarthy accuses U.S. Army of communist conspirac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my attorney Joseph Welch shredded McCarthy’s charges of conspira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954 the Senate voted to condemn McCarthy, he later died in 1957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Eisenhower Year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tion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Eisenhower Ye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isenhower made people think that things might come out alr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won the confidence of the American peo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he spoke he sounded like the family doctor because his voice was very soo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rtner In Cr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isenhower had good political instincts, because he choose senator Nixon as his running m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ator Nixon had tons of experience and was a champ of anticommun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ke’s election campaign was organized, efficient, and determi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promised to “clean up the mess in Washington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promised to go to Korea him self and end the w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Second Te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1956 election was basically a rerun of the 1952 e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ce again Eisenhower squared off with Adlai Stevenson and w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conservation Tur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xon candidate for congress in 19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xon said “ one was and advocated by new deal is government control regulating our lives. The second one is called for individual freedom and all that initiative can produ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ace R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ouble threatened when Castro came to power in Cub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1957 the Soviets sent up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putni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1, the first satell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 months after that the U.S. sent up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xplor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the Counties answer to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putni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ter that year, Congress created The National Aeronautics and Space Administration AKA NA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428840" y="895320"/>
            <a:ext cx="628632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ving Ame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ke wasn’t concerned with blazing a path into space, but he wanted to start paving new roads across the cou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econd Eisenhower term was the biggest and expensive public works program in American history: Construction of the federal interstate highway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05120" y="1371600"/>
            <a:ext cx="49147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tions C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ress appropriated $32 billion to build 41,000 miles of highw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n years later, cars and trucks crisscrossed the nation along the world’s finest highway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inal cost was more than $80 Bill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ke’s Leg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ke described himself as “conservative when it comes to money and liberal when it comes to human beings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ring his terms, congress extended Social Security to cover another 7 million people and unemployment compensation to cover another 4 million peo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inimum wage increased from 75 cents to $1, and federally financed housing for lower-income families increa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960 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nnedy versus Nixon meant Catholic versus Protest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was Kennedy the spender against Nixon the fiscal conserv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wo men had similar opinions on foreign and domestic iss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xon had to disagree publicly with Kennedy because he had to support his administration’s vie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960 Kennedy was not a vigorous advocate of civil rights and Nixon had long been a moderate on the iss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29100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mpaign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U.S. had been left behind again when the Soviets sent a dog into sp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olent Communist movements in Asia had not ended with the Korean War, but were only shifting to southeast Asia in a little country called Vietn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w 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e first time, the electronic media- TV and radio- were becoming a big factor in a presidential campaig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nnedy liked all the attention and being on TV because of his good looks and hum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ears about the ec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ic goods shot up by 25% in the mid 19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were more strikes, measured in the lost work hours than any other time in American his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man raised prices on the people to get more money for war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4495680" cy="41418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419720" y="1219320"/>
            <a:ext cx="47242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election was one of the closest in his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nnedy took 49.7 percent of the popular vote to 49.5 percent for Nix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lectoral vote were Kennedy 303 to Nixon 21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438280" y="838080"/>
            <a:ext cx="411480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479840" y="3244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) During the Nixon- Kennedy presidential campaign, TV and radio, also known as the _________, became an important fac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) Dwight Eisenhower practiced a management style based on group agreements called __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) Which of the following was not an accomplishment of the Eisenhower administr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Construction of the interstate highway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 Creation of 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 Expansion of social security benefits and unemployment compen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 Passage of the Traft- Hartley 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) What was the cost for paving 41,000 miles of highways in the U.S.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$20 B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 $30 B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 $32 B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 $35 B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) What did they find on Chambers Far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icro Fil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 Cook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 Pas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 A top secret formula for a nuclear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) Was Eisenhower an aggressive talker or a very sweet and soothing talk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) After WW2 what were people so afraid of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) Truman took his famous train Tour know as 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HU CHOO T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 Whistle Stop T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 Around the country t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 Railroad T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) What was the McCarren A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) True or False, did Harry Truman ever want to be presid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1) When did McCarthy Di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195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 19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 19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 19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2) In 1949, minimum wages raised from 40 cent to 75 c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ue or 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3) What was the HUA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House of un-American activities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 How un-American Are C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 How to Use A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 House of Utter acting C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) Truman went to war with congress over what bi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Draft 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 Taft Hartley 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 Good Neighbor 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 Peace 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) Did Eisenhower turn down an offer for $40,000 from McCall’s magazine just to say whether or not he was a republican or n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ue or 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691080" cy="5334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733920" y="3125880"/>
            <a:ext cx="541008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cklash against the New Dea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ert Taft made a bill that ban a work place only union members could be h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ill also allowed stated to pass right to work  laws wish outlawed union sho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ill helped  balance power so people had more say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808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man went to war with congress over the Taft Hartley bill which was called slave labor bil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ll was passed with no help from Trum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man fights the Taft Hartley Bil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up hill race in 194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ry Truman never wanted to be presi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shed someone else would take the jo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aunting prospects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 thought Truman was soft on labor and commun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body like Truman because prices were so much higher on stu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gressives party appeared to be a serious political contender that could spoil Truman's chances for ree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5T16:18:25Z</dcterms:created>
  <dc:creator>ASD</dc:creator>
  <dc:description/>
  <dc:language>en-US</dc:language>
  <cp:lastModifiedBy>ASD</cp:lastModifiedBy>
  <dcterms:modified xsi:type="dcterms:W3CDTF">2010-07-06T21:08:18Z</dcterms:modified>
  <cp:revision>7</cp:revision>
  <dc:subject/>
  <dc:title>Cold War Politics</dc:title>
</cp:coreProperties>
</file>